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4.png" ContentType="image/png"/>
  <Override PartName="/ppt/media/image8.wmf" ContentType="image/x-wmf"/>
  <Override PartName="/ppt/media/image9.png" ContentType="image/png"/>
  <Override PartName="/ppt/media/image15.wmf" ContentType="image/x-wmf"/>
  <Override PartName="/ppt/media/image1.jpeg" ContentType="image/jpeg"/>
  <Override PartName="/ppt/media/image13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536661" descr="图片1000"/>
          <p:cNvPicPr/>
          <p:nvPr/>
        </p:nvPicPr>
        <p:blipFill>
          <a:blip r:embed="rId3"/>
          <a:stretch/>
        </p:blipFill>
        <p:spPr>
          <a:xfrm>
            <a:off x="3457440" y="739800"/>
            <a:ext cx="4810320" cy="285840"/>
          </a:xfrm>
          <a:prstGeom prst="rect">
            <a:avLst/>
          </a:prstGeom>
          <a:ln w="0">
            <a:noFill/>
          </a:ln>
        </p:spPr>
      </p:pic>
      <p:sp>
        <p:nvSpPr>
          <p:cNvPr id="38" name="矩形 536644"/>
          <p:cNvSpPr/>
          <p:nvPr/>
        </p:nvSpPr>
        <p:spPr>
          <a:xfrm>
            <a:off x="3510000" y="773280"/>
            <a:ext cx="106200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矩形 536650"/>
          <p:cNvSpPr/>
          <p:nvPr/>
        </p:nvSpPr>
        <p:spPr>
          <a:xfrm>
            <a:off x="1917720" y="542880"/>
            <a:ext cx="1434960" cy="38088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矩形 536664"/>
          <p:cNvSpPr/>
          <p:nvPr/>
        </p:nvSpPr>
        <p:spPr>
          <a:xfrm>
            <a:off x="4608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矩形 536665"/>
          <p:cNvSpPr/>
          <p:nvPr/>
        </p:nvSpPr>
        <p:spPr>
          <a:xfrm>
            <a:off x="5724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矩形 536666"/>
          <p:cNvSpPr/>
          <p:nvPr/>
        </p:nvSpPr>
        <p:spPr>
          <a:xfrm>
            <a:off x="6840360" y="773280"/>
            <a:ext cx="87948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68675"/>
          <p:cNvSpPr/>
          <p:nvPr/>
        </p:nvSpPr>
        <p:spPr>
          <a:xfrm>
            <a:off x="1101600" y="1994040"/>
            <a:ext cx="6940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比 例 尺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2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1015809"/>
          <p:cNvSpPr/>
          <p:nvPr/>
        </p:nvSpPr>
        <p:spPr>
          <a:xfrm>
            <a:off x="233280" y="1865160"/>
            <a:ext cx="923940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在比例尺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∶20000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地图上，图上距离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表示实际距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离（   ）千米，图上距离是实际距离的（  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在比例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∶10000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地图上，量得甲、乙 两地之间的距离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两地之间的实际距离是（   ）千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0" name="文本框 1015812"/>
          <p:cNvSpPr/>
          <p:nvPr/>
        </p:nvSpPr>
        <p:spPr>
          <a:xfrm>
            <a:off x="609480" y="2527560"/>
            <a:ext cx="97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21" name="对象 1015813"/>
          <p:cNvGraphicFramePr/>
          <p:nvPr/>
        </p:nvGraphicFramePr>
        <p:xfrm>
          <a:off x="5557680" y="2597040"/>
          <a:ext cx="96552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对象 10158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7680" y="2597040"/>
                    <a:ext cx="9655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文本框 1015814"/>
          <p:cNvSpPr/>
          <p:nvPr/>
        </p:nvSpPr>
        <p:spPr>
          <a:xfrm>
            <a:off x="4073400" y="3734280"/>
            <a:ext cx="97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1031169"/>
          <p:cNvSpPr/>
          <p:nvPr/>
        </p:nvSpPr>
        <p:spPr>
          <a:xfrm>
            <a:off x="14400" y="1533600"/>
            <a:ext cx="94154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一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用图上距离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表示实际距离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，这幅图的比例尺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 5∶200            B.1∶4000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 5∶20000          D.1∶40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比例尺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把尺子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个比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个计量单位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文本框 1031173"/>
          <p:cNvSpPr/>
          <p:nvPr/>
        </p:nvSpPr>
        <p:spPr>
          <a:xfrm>
            <a:off x="8202600" y="1994400"/>
            <a:ext cx="663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文本框 1031174"/>
          <p:cNvSpPr/>
          <p:nvPr/>
        </p:nvSpPr>
        <p:spPr>
          <a:xfrm>
            <a:off x="2017800" y="3505680"/>
            <a:ext cx="663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030145"/>
          <p:cNvSpPr/>
          <p:nvPr/>
        </p:nvSpPr>
        <p:spPr>
          <a:xfrm>
            <a:off x="254160" y="1620720"/>
            <a:ext cx="8619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                    改写成数值比例尺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1∶30               B.1∶90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1∶3000             D.1∶900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关于比例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∶300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（  ）的说法是正确的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图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表示实际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图上距离是实际距离的　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图上距离是实际距离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倍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8" name="图片 1030150" descr=""/>
          <p:cNvPicPr/>
          <p:nvPr/>
        </p:nvPicPr>
        <p:blipFill>
          <a:blip r:embed="rId1"/>
          <a:stretch/>
        </p:blipFill>
        <p:spPr>
          <a:xfrm>
            <a:off x="1414440" y="1814400"/>
            <a:ext cx="2565360" cy="3780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1030151"/>
          <p:cNvSpPr/>
          <p:nvPr/>
        </p:nvSpPr>
        <p:spPr>
          <a:xfrm>
            <a:off x="6689880" y="1575360"/>
            <a:ext cx="819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文本框 1030152"/>
          <p:cNvSpPr/>
          <p:nvPr/>
        </p:nvSpPr>
        <p:spPr>
          <a:xfrm>
            <a:off x="4149720" y="3086640"/>
            <a:ext cx="819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31" name="对象 1030153"/>
          <p:cNvGraphicFramePr/>
          <p:nvPr/>
        </p:nvGraphicFramePr>
        <p:xfrm>
          <a:off x="3473280" y="4199040"/>
          <a:ext cx="4572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对象 103015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73280" y="4199040"/>
                    <a:ext cx="457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1028097"/>
          <p:cNvSpPr/>
          <p:nvPr/>
        </p:nvSpPr>
        <p:spPr>
          <a:xfrm>
            <a:off x="195120" y="155592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表，并写出计算过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442880" y="2360520"/>
          <a:ext cx="6258240" cy="1716120"/>
        </p:xfrm>
        <a:graphic>
          <a:graphicData uri="http://schemas.openxmlformats.org/drawingml/2006/table">
            <a:tbl>
              <a:tblPr/>
              <a:tblGrid>
                <a:gridCol w="2086200"/>
                <a:gridCol w="2085840"/>
                <a:gridCol w="208620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图上距离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距离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比例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 cm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 m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5 cm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∶300000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 km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∶400000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文本框 1028188"/>
          <p:cNvSpPr/>
          <p:nvPr/>
        </p:nvSpPr>
        <p:spPr>
          <a:xfrm>
            <a:off x="6019920" y="2613240"/>
            <a:ext cx="1282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0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文本框 1028189"/>
          <p:cNvSpPr/>
          <p:nvPr/>
        </p:nvSpPr>
        <p:spPr>
          <a:xfrm>
            <a:off x="4069080" y="3045240"/>
            <a:ext cx="1020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5 km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文本框 1028190"/>
          <p:cNvSpPr/>
          <p:nvPr/>
        </p:nvSpPr>
        <p:spPr>
          <a:xfrm>
            <a:off x="2073600" y="3464280"/>
            <a:ext cx="831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 cm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1047553"/>
          <p:cNvSpPr/>
          <p:nvPr/>
        </p:nvSpPr>
        <p:spPr>
          <a:xfrm>
            <a:off x="195120" y="1757520"/>
            <a:ext cx="862020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0 m=8000 cm    2∶8000=1∶40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.5×30=7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km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12000000 cm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000000×        =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m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39" name="对象 1047554"/>
          <p:cNvGraphicFramePr/>
          <p:nvPr/>
        </p:nvGraphicFramePr>
        <p:xfrm>
          <a:off x="1752480" y="3705120"/>
          <a:ext cx="9651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对象 10475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705120"/>
                    <a:ext cx="9651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1048577"/>
          <p:cNvSpPr/>
          <p:nvPr/>
        </p:nvSpPr>
        <p:spPr>
          <a:xfrm>
            <a:off x="195120" y="1308240"/>
            <a:ext cx="86202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跳跳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解决问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计算下面三角形的实际面积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×2=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米）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×2=1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×12÷2=4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42" name="组合 1048580"/>
          <p:cNvGrpSpPr/>
          <p:nvPr/>
        </p:nvGrpSpPr>
        <p:grpSpPr>
          <a:xfrm>
            <a:off x="2343240" y="3087720"/>
            <a:ext cx="3508200" cy="1241280"/>
            <a:chOff x="2343240" y="3087720"/>
            <a:chExt cx="3508200" cy="1241280"/>
          </a:xfrm>
        </p:grpSpPr>
        <p:sp>
          <p:nvSpPr>
            <p:cNvPr id="143" name="矩形 1048579"/>
            <p:cNvSpPr/>
            <p:nvPr/>
          </p:nvSpPr>
          <p:spPr>
            <a:xfrm>
              <a:off x="2343240" y="3087720"/>
              <a:ext cx="3501720" cy="12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44" name="图片 1048581" descr=""/>
            <p:cNvPicPr/>
            <p:nvPr/>
          </p:nvPicPr>
          <p:blipFill>
            <a:blip r:embed="rId1"/>
            <a:stretch/>
          </p:blipFill>
          <p:spPr>
            <a:xfrm>
              <a:off x="2343240" y="3087720"/>
              <a:ext cx="3508200" cy="124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1049601"/>
          <p:cNvSpPr/>
          <p:nvPr/>
        </p:nvSpPr>
        <p:spPr>
          <a:xfrm>
            <a:off x="195120" y="144144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在一幅比例尺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∶40000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地图上，量得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两地的距离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在另外一幅比例尺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∶60000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地图上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两地的图上距离是多少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×40=12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千米） 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0÷60=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两地的图上距离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1050625"/>
          <p:cNvSpPr/>
          <p:nvPr/>
        </p:nvSpPr>
        <p:spPr>
          <a:xfrm>
            <a:off x="195120" y="1441440"/>
            <a:ext cx="86202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学校要挖一个长方形水池，在比例尺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∶2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设计图上，水池的长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宽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深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按图施工，这个水池的长、宽、深各应挖多少米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长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×2=2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米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宽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:10×2=2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米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深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×2=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个水池的长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，宽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，深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051649"/>
          <p:cNvSpPr/>
          <p:nvPr/>
        </p:nvSpPr>
        <p:spPr>
          <a:xfrm>
            <a:off x="196920" y="217980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这个水池的占地面积是多少平方米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4×20=48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个水池的占地面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8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1043457"/>
          <p:cNvSpPr/>
          <p:nvPr/>
        </p:nvSpPr>
        <p:spPr>
          <a:xfrm>
            <a:off x="195120" y="153684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甲乙两地相距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千米，画在一幅地图上的长度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这幅地图的比例尺是多少？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56000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厘米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∶5600000=1∶70000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幅地图的比例尺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∶7000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77000"/>
          <p:cNvSpPr/>
          <p:nvPr/>
        </p:nvSpPr>
        <p:spPr>
          <a:xfrm>
            <a:off x="254160" y="1616040"/>
            <a:ext cx="8619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比例尺是（         ）与（         ）的比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线段比例尺                的意义是图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表示实际（   ）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种微型零件的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毫米，画在图纸上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这幅图的比例尺是（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图上距离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   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   ），实际距离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84" name="组合 377032"/>
          <p:cNvGrpSpPr/>
          <p:nvPr/>
        </p:nvGrpSpPr>
        <p:grpSpPr>
          <a:xfrm>
            <a:off x="2460600" y="3065400"/>
            <a:ext cx="2228760" cy="379440"/>
            <a:chOff x="2460600" y="3065400"/>
            <a:chExt cx="2228760" cy="379440"/>
          </a:xfrm>
        </p:grpSpPr>
        <p:sp>
          <p:nvSpPr>
            <p:cNvPr id="85" name="矩形 377031"/>
            <p:cNvSpPr/>
            <p:nvPr/>
          </p:nvSpPr>
          <p:spPr>
            <a:xfrm>
              <a:off x="2460600" y="3065400"/>
              <a:ext cx="222228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86" name="图片 377033" descr=""/>
            <p:cNvPicPr/>
            <p:nvPr/>
          </p:nvPicPr>
          <p:blipFill>
            <a:blip r:embed="rId1"/>
            <a:stretch/>
          </p:blipFill>
          <p:spPr>
            <a:xfrm>
              <a:off x="2460600" y="3065400"/>
              <a:ext cx="222876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文本框 377034"/>
          <p:cNvSpPr/>
          <p:nvPr/>
        </p:nvSpPr>
        <p:spPr>
          <a:xfrm>
            <a:off x="2225520" y="2410200"/>
            <a:ext cx="1721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图上距离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文本框 377035"/>
          <p:cNvSpPr/>
          <p:nvPr/>
        </p:nvSpPr>
        <p:spPr>
          <a:xfrm>
            <a:off x="4346640" y="2410200"/>
            <a:ext cx="1720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实际距离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文本框 377036"/>
          <p:cNvSpPr/>
          <p:nvPr/>
        </p:nvSpPr>
        <p:spPr>
          <a:xfrm>
            <a:off x="525600" y="3286440"/>
            <a:ext cx="612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文本框 377037"/>
          <p:cNvSpPr/>
          <p:nvPr/>
        </p:nvSpPr>
        <p:spPr>
          <a:xfrm>
            <a:off x="1057320" y="4150080"/>
            <a:ext cx="984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: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文本框 377038"/>
          <p:cNvSpPr/>
          <p:nvPr/>
        </p:nvSpPr>
        <p:spPr>
          <a:xfrm>
            <a:off x="2365200" y="4594680"/>
            <a:ext cx="1721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实际距离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文本框 377039"/>
          <p:cNvSpPr/>
          <p:nvPr/>
        </p:nvSpPr>
        <p:spPr>
          <a:xfrm>
            <a:off x="4530600" y="4594680"/>
            <a:ext cx="1352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比例尺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文本框 377040"/>
          <p:cNvSpPr/>
          <p:nvPr/>
        </p:nvSpPr>
        <p:spPr>
          <a:xfrm>
            <a:off x="7675560" y="4594680"/>
            <a:ext cx="981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图上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文本框 377041"/>
          <p:cNvSpPr/>
          <p:nvPr/>
        </p:nvSpPr>
        <p:spPr>
          <a:xfrm>
            <a:off x="208080" y="5026320"/>
            <a:ext cx="981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距离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文本框 377042"/>
          <p:cNvSpPr/>
          <p:nvPr/>
        </p:nvSpPr>
        <p:spPr>
          <a:xfrm>
            <a:off x="1711440" y="5026320"/>
            <a:ext cx="1352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比例尺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1044481"/>
          <p:cNvSpPr/>
          <p:nvPr/>
        </p:nvSpPr>
        <p:spPr>
          <a:xfrm>
            <a:off x="214200" y="163836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比例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∶50000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地图上，量得西安到安康之间的距离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张老师自驾车从安康回西安，车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时，他从安康到西安需要几个小时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.5×50=22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千米）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25÷90=2.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小时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他从安康到西安需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.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个小时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1052673"/>
          <p:cNvSpPr/>
          <p:nvPr/>
        </p:nvSpPr>
        <p:spPr>
          <a:xfrm>
            <a:off x="195120" y="1255680"/>
            <a:ext cx="862020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小升初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一张比例尺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∶200000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地图上，量得甲乙两地间的距离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两车同时从两地相向而行，经过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小时两车相遇。已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车每小时行的路程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车的  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两车的速度各是多少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×200=12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千米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00÷12=1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千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小时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0÷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+ 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6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千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小时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0-60=4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千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小时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两车的速度分别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小时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小时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51" name="对象 1052674"/>
          <p:cNvGraphicFramePr/>
          <p:nvPr/>
        </p:nvGraphicFramePr>
        <p:xfrm>
          <a:off x="3559320" y="2724120"/>
          <a:ext cx="2030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对象 10526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9320" y="272412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对象 1052675"/>
          <p:cNvGraphicFramePr/>
          <p:nvPr/>
        </p:nvGraphicFramePr>
        <p:xfrm>
          <a:off x="1612800" y="4110120"/>
          <a:ext cx="2034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对象 10526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2800" y="4110120"/>
                    <a:ext cx="203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737282"/>
          <p:cNvSpPr/>
          <p:nvPr/>
        </p:nvSpPr>
        <p:spPr>
          <a:xfrm>
            <a:off x="291960" y="109692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解决问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个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千米的公路画在地图上后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这幅地图的比例尺是多少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120000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厘米 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∶12000000=1∶400000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小明家距离图书馆和幸福小学分别是多少米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97" name="组合 737315"/>
          <p:cNvGrpSpPr/>
          <p:nvPr/>
        </p:nvGrpSpPr>
        <p:grpSpPr>
          <a:xfrm>
            <a:off x="539640" y="3705120"/>
            <a:ext cx="3405240" cy="1919520"/>
            <a:chOff x="539640" y="3705120"/>
            <a:chExt cx="3405240" cy="1919520"/>
          </a:xfrm>
        </p:grpSpPr>
        <p:sp>
          <p:nvSpPr>
            <p:cNvPr id="98" name="矩形 737314"/>
            <p:cNvSpPr/>
            <p:nvPr/>
          </p:nvSpPr>
          <p:spPr>
            <a:xfrm>
              <a:off x="539640" y="3705120"/>
              <a:ext cx="3397320" cy="191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99" name="图片 737316" descr=""/>
            <p:cNvPicPr/>
            <p:nvPr/>
          </p:nvPicPr>
          <p:blipFill>
            <a:blip r:embed="rId1"/>
            <a:stretch/>
          </p:blipFill>
          <p:spPr>
            <a:xfrm>
              <a:off x="539640" y="3705120"/>
              <a:ext cx="3405240" cy="19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矩形 737318"/>
          <p:cNvSpPr/>
          <p:nvPr/>
        </p:nvSpPr>
        <p:spPr>
          <a:xfrm>
            <a:off x="3936960" y="4060800"/>
            <a:ext cx="5661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小明家距离幸福小学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:4×80=32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米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小明家距离图书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:3×80=24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1024001"/>
          <p:cNvSpPr/>
          <p:nvPr/>
        </p:nvSpPr>
        <p:spPr>
          <a:xfrm>
            <a:off x="254160" y="1895400"/>
            <a:ext cx="8619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教材练习八</a:t>
            </a: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P47 T6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02" name="组合 1024008"/>
          <p:cNvGrpSpPr/>
          <p:nvPr/>
        </p:nvGrpSpPr>
        <p:grpSpPr>
          <a:xfrm>
            <a:off x="1795320" y="2598840"/>
            <a:ext cx="5591160" cy="2044440"/>
            <a:chOff x="1795320" y="2598840"/>
            <a:chExt cx="5591160" cy="2044440"/>
          </a:xfrm>
        </p:grpSpPr>
        <p:sp>
          <p:nvSpPr>
            <p:cNvPr id="103" name="矩形 1024007"/>
            <p:cNvSpPr/>
            <p:nvPr/>
          </p:nvSpPr>
          <p:spPr>
            <a:xfrm>
              <a:off x="1795320" y="2598840"/>
              <a:ext cx="5584680" cy="20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04" name="图片 1024009" descr=""/>
            <p:cNvPicPr/>
            <p:nvPr/>
          </p:nvPicPr>
          <p:blipFill>
            <a:blip r:embed="rId1"/>
            <a:stretch/>
          </p:blipFill>
          <p:spPr>
            <a:xfrm>
              <a:off x="1795320" y="2598840"/>
              <a:ext cx="5591160" cy="204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1012737"/>
          <p:cNvSpPr/>
          <p:nvPr/>
        </p:nvSpPr>
        <p:spPr>
          <a:xfrm>
            <a:off x="272880" y="195408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00 m=80000 cm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∶80000=1∶160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；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5×400=1400 m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；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50÷30=15 cm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025025"/>
          <p:cNvSpPr/>
          <p:nvPr/>
        </p:nvSpPr>
        <p:spPr>
          <a:xfrm>
            <a:off x="254160" y="1841400"/>
            <a:ext cx="8619840" cy="20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运用转化法巧解比例尺问题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比例尺为        的地图上，量得两城市间的距离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如画在比例尺为        的地图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图上距离是多少厘米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07" name="对象 1025038"/>
          <p:cNvGraphicFramePr/>
          <p:nvPr/>
        </p:nvGraphicFramePr>
        <p:xfrm>
          <a:off x="1809720" y="2519280"/>
          <a:ext cx="9651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对象 10250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2519280"/>
                    <a:ext cx="9651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对象 1025040"/>
          <p:cNvGraphicFramePr/>
          <p:nvPr/>
        </p:nvGraphicFramePr>
        <p:xfrm>
          <a:off x="1836720" y="3289320"/>
          <a:ext cx="95256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对象 10250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6720" y="3289320"/>
                    <a:ext cx="9525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1046529"/>
          <p:cNvSpPr/>
          <p:nvPr/>
        </p:nvSpPr>
        <p:spPr>
          <a:xfrm>
            <a:off x="254160" y="1963800"/>
            <a:ext cx="8619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×25=2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千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0÷80=2.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图上距离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.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027073"/>
          <p:cNvSpPr/>
          <p:nvPr/>
        </p:nvSpPr>
        <p:spPr>
          <a:xfrm>
            <a:off x="254160" y="1341360"/>
            <a:ext cx="86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昆明到西双版纳的实际距离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千米，在一幅地图上量得两地之间的距离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。在这幅地图上量得泸西到丽江的图上距离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。泸西到丽江的实际距离是多少千米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厘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∶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米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厘米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∶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00000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厘米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1∶150000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×150=9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千米）  答：泸西到丽江的实际距离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014785"/>
          <p:cNvSpPr/>
          <p:nvPr/>
        </p:nvSpPr>
        <p:spPr>
          <a:xfrm>
            <a:off x="254160" y="1558800"/>
            <a:ext cx="9180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起跑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                  的意思是图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 ）代表实际（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的长度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种手表零件画在图纸上时用图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表示实际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毫米的长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度，这幅图纸的比例尺是（ 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14" name="图片 1014802" descr=""/>
          <p:cNvPicPr/>
          <p:nvPr/>
        </p:nvPicPr>
        <p:blipFill>
          <a:blip r:embed="rId1"/>
          <a:stretch/>
        </p:blipFill>
        <p:spPr>
          <a:xfrm>
            <a:off x="988920" y="2646360"/>
            <a:ext cx="2476440" cy="45252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1014803"/>
          <p:cNvSpPr/>
          <p:nvPr/>
        </p:nvSpPr>
        <p:spPr>
          <a:xfrm>
            <a:off x="5799960" y="2527560"/>
            <a:ext cx="515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厘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6" name="文本框 1014804"/>
          <p:cNvSpPr/>
          <p:nvPr/>
        </p:nvSpPr>
        <p:spPr>
          <a:xfrm>
            <a:off x="8078400" y="2527560"/>
            <a:ext cx="735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文本框 1014805"/>
          <p:cNvSpPr/>
          <p:nvPr/>
        </p:nvSpPr>
        <p:spPr>
          <a:xfrm>
            <a:off x="379080" y="3022920"/>
            <a:ext cx="348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8" name="文本框 1014806"/>
          <p:cNvSpPr/>
          <p:nvPr/>
        </p:nvSpPr>
        <p:spPr>
          <a:xfrm>
            <a:off x="3387600" y="4045320"/>
            <a:ext cx="151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∶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0:29:47Z</dcterms:created>
  <dc:creator>世纪金榜</dc:creator>
  <dc:description/>
  <dc:language>en-US</dc:language>
  <cp:lastModifiedBy>admin</cp:lastModifiedBy>
  <dcterms:modified xsi:type="dcterms:W3CDTF">2018-01-22T00:35:39Z</dcterms:modified>
  <cp:revision>1325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